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907588" cy="6858000"/>
  <p:notesSz cx="6858000" cy="8913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94960" y="38160"/>
            <a:ext cx="8286840" cy="838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i="1" lang="en-US" sz="3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7760" y="1385640"/>
            <a:ext cx="9029880" cy="2407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7760" y="4022280"/>
            <a:ext cx="9029880" cy="2407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94960" y="38160"/>
            <a:ext cx="8286840" cy="838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i="1" lang="en-US" sz="3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7760" y="1385640"/>
            <a:ext cx="4406400" cy="2407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840" y="1385640"/>
            <a:ext cx="4406400" cy="2407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7760" y="4022280"/>
            <a:ext cx="4406400" cy="2407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4840" y="4022280"/>
            <a:ext cx="4406400" cy="2407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94960" y="38160"/>
            <a:ext cx="8286840" cy="838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i="1" lang="en-US" sz="3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7760" y="1385640"/>
            <a:ext cx="2907360" cy="2407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0920" y="1385640"/>
            <a:ext cx="2907360" cy="2407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44080" y="1385640"/>
            <a:ext cx="2907360" cy="2407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7760" y="4022280"/>
            <a:ext cx="2907360" cy="2407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0920" y="4022280"/>
            <a:ext cx="2907360" cy="2407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44080" y="4022280"/>
            <a:ext cx="2907360" cy="2407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B006-5C05-4B06-91CC-09BCECCC6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94960" y="38160"/>
            <a:ext cx="8286840" cy="838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i="1" lang="en-US" sz="3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37760" y="1385640"/>
            <a:ext cx="9029880" cy="50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19D0-DA04-42D7-BD46-1DDD17BA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94960" y="38160"/>
            <a:ext cx="8286840" cy="838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i="1" lang="en-US" sz="3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37760" y="1385640"/>
            <a:ext cx="9029880" cy="50482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9955-4222-43D1-BB27-0DF9BAC0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94960" y="38160"/>
            <a:ext cx="8286840" cy="838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i="1" lang="en-US" sz="3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7760" y="1385640"/>
            <a:ext cx="4406400" cy="50482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4840" y="1385640"/>
            <a:ext cx="4406400" cy="50482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8747-5023-4684-AA8A-83F4063F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94960" y="38160"/>
            <a:ext cx="8286840" cy="838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i="1" lang="en-US" sz="3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3ABE-1658-470C-8B34-F5CF0ADF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94960" y="38160"/>
            <a:ext cx="8286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359D-EDBC-4BAA-9C5C-1E08111B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94960" y="38160"/>
            <a:ext cx="8286840" cy="838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i="1" lang="en-US" sz="3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7760" y="1385640"/>
            <a:ext cx="4406400" cy="2407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4840" y="1385640"/>
            <a:ext cx="4406400" cy="50482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7760" y="4022280"/>
            <a:ext cx="4406400" cy="2407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B014-AAD2-4E80-ABF6-8A8A7861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94960" y="38160"/>
            <a:ext cx="8286840" cy="838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i="1" lang="en-US" sz="3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7760" y="1385640"/>
            <a:ext cx="9029880" cy="50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94960" y="38160"/>
            <a:ext cx="8286840" cy="838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i="1" lang="en-US" sz="3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37760" y="1385640"/>
            <a:ext cx="4406400" cy="50482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4840" y="1385640"/>
            <a:ext cx="4406400" cy="2407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64840" y="4022280"/>
            <a:ext cx="4406400" cy="2407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C6BA-9E1D-4356-B65F-4AACBADA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94960" y="38160"/>
            <a:ext cx="8286840" cy="838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i="1" lang="en-US" sz="3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37760" y="1385640"/>
            <a:ext cx="4406400" cy="2407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4840" y="1385640"/>
            <a:ext cx="4406400" cy="2407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7760" y="4022280"/>
            <a:ext cx="9029880" cy="2407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0137-5C58-4DEA-B557-D6E066DD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94960" y="38160"/>
            <a:ext cx="8286840" cy="838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i="1" lang="en-US" sz="3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7760" y="1385640"/>
            <a:ext cx="9029880" cy="2407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7760" y="4022280"/>
            <a:ext cx="9029880" cy="2407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B30E-5312-496D-AB19-73FAD5B5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94960" y="38160"/>
            <a:ext cx="8286840" cy="838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i="1" lang="en-US" sz="3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37760" y="1385640"/>
            <a:ext cx="4406400" cy="2407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4840" y="1385640"/>
            <a:ext cx="4406400" cy="2407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37760" y="4022280"/>
            <a:ext cx="4406400" cy="2407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64840" y="4022280"/>
            <a:ext cx="4406400" cy="2407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AA69-9819-4C53-9BD4-CA8CEC62A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94960" y="38160"/>
            <a:ext cx="8286840" cy="838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i="1" lang="en-US" sz="3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37760" y="1385640"/>
            <a:ext cx="2907360" cy="2407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90920" y="1385640"/>
            <a:ext cx="2907360" cy="2407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44080" y="1385640"/>
            <a:ext cx="2907360" cy="2407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7760" y="4022280"/>
            <a:ext cx="2907360" cy="2407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90920" y="4022280"/>
            <a:ext cx="2907360" cy="2407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44080" y="4022280"/>
            <a:ext cx="2907360" cy="2407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051D-2EBA-44AA-95E4-636176248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94960" y="38160"/>
            <a:ext cx="8286840" cy="838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i="1" lang="en-US" sz="3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7760" y="1385640"/>
            <a:ext cx="9029880" cy="50482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94960" y="38160"/>
            <a:ext cx="8286840" cy="838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i="1" lang="en-US" sz="3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7760" y="1385640"/>
            <a:ext cx="4406400" cy="50482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840" y="1385640"/>
            <a:ext cx="4406400" cy="50482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94960" y="38160"/>
            <a:ext cx="8286840" cy="838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i="1" lang="en-US" sz="3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94960" y="38160"/>
            <a:ext cx="8286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94960" y="38160"/>
            <a:ext cx="8286840" cy="838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i="1" lang="en-US" sz="3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7760" y="1385640"/>
            <a:ext cx="4406400" cy="2407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840" y="1385640"/>
            <a:ext cx="4406400" cy="50482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7760" y="4022280"/>
            <a:ext cx="4406400" cy="2407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94960" y="38160"/>
            <a:ext cx="8286840" cy="838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i="1" lang="en-US" sz="3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7760" y="1385640"/>
            <a:ext cx="4406400" cy="50482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840" y="1385640"/>
            <a:ext cx="4406400" cy="2407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4840" y="4022280"/>
            <a:ext cx="4406400" cy="2407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94960" y="38160"/>
            <a:ext cx="8286840" cy="838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i="1" lang="en-US" sz="3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7760" y="1385640"/>
            <a:ext cx="4406400" cy="2407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840" y="1385640"/>
            <a:ext cx="4406400" cy="2407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7760" y="4022280"/>
            <a:ext cx="9029880" cy="2407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94960" y="38160"/>
            <a:ext cx="8286840" cy="838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en-US" sz="34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0" i="1" lang="en-US" sz="3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7760" y="1385640"/>
            <a:ext cx="9029880" cy="50482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marL="457200" indent="-4572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00319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  <a:p>
            <a:pPr lvl="1" marL="990720" indent="-354240">
              <a:spcBef>
                <a:spcPts val="799"/>
              </a:spcBef>
              <a:buClr>
                <a:srgbClr val="c99a17"/>
              </a:buClr>
              <a:buFont typeface="Wingdings" charset="2"/>
              <a:buChar char="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00319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  <a:p>
            <a:pPr lvl="2" marL="1619280" indent="-353880">
              <a:spcBef>
                <a:spcPts val="799"/>
              </a:spcBef>
              <a:buClr>
                <a:srgbClr val="c99a17"/>
              </a:buClr>
              <a:buFont typeface="Wingdings" charset="2"/>
              <a:buChar char="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00319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  <a:p>
            <a:pPr lvl="3" marL="2076480" indent="-277920">
              <a:spcBef>
                <a:spcPts val="799"/>
              </a:spcBef>
              <a:buClr>
                <a:srgbClr val="c99a17"/>
              </a:buClr>
              <a:buFont typeface="Wingdings" charset="2"/>
              <a:buChar char="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00319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  <a:p>
            <a:pPr lvl="4" marL="2470320" indent="-214560">
              <a:spcBef>
                <a:spcPts val="799"/>
              </a:spcBef>
              <a:buClr>
                <a:srgbClr val="c99a17"/>
              </a:buClr>
              <a:buFont typeface="Arial"/>
              <a:buChar char="–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00319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  <a:p>
            <a:pPr lvl="5" marL="247032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00319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  <a:p>
            <a:pPr lvl="6" marL="247032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00319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987400" y="847800"/>
            <a:ext cx="123120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fld id="{A8E79BCF-49BF-4249-9F0F-1DD825D8FC6D}" type="slidenum">
              <a:rPr b="0" lang="en-US" sz="1400" spc="-1" strike="noStrike">
                <a:solidFill>
                  <a:srgbClr val="dca408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dca408"/>
                </a:solidFill>
                <a:latin typeface="Arial"/>
              </a:rPr>
              <a:t>/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47680" y="1009800"/>
            <a:ext cx="8940600" cy="69840"/>
          </a:xfrm>
          <a:prstGeom prst="roundRect">
            <a:avLst>
              <a:gd name="adj" fmla="val 49995"/>
            </a:avLst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162000" y="152280"/>
            <a:ext cx="533160" cy="61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2680" y="144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en-US" sz="34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0" i="1" lang="en-US" sz="3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74304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2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3"/>
          </p:nvPr>
        </p:nvSpPr>
        <p:spPr>
          <a:xfrm>
            <a:off x="709884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fld id="{95E49BA8-9FF5-4328-A469-63AAB08C77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19240" y="152280"/>
            <a:ext cx="457200" cy="542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76280" y="3181320"/>
            <a:ext cx="8940600" cy="69840"/>
          </a:xfrm>
          <a:prstGeom prst="roundRect">
            <a:avLst>
              <a:gd name="adj" fmla="val 49995"/>
            </a:avLst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00319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  <a:p>
            <a:pPr lvl="1" marL="428760" indent="0" algn="ctr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2" marL="855720" indent="409680" algn="ctr">
              <a:spcBef>
                <a:spcPts val="601"/>
              </a:spcBef>
              <a:buClr>
                <a:srgbClr val="c99a17"/>
              </a:buClr>
              <a:buFont typeface="Wingdings" charset="2"/>
              <a:buChar char=""/>
              <a:tabLst>
                <a:tab algn="l" pos="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84120" indent="514440" algn="ctr">
              <a:spcBef>
                <a:spcPts val="499"/>
              </a:spcBef>
              <a:buClr>
                <a:srgbClr val="c99a17"/>
              </a:buClr>
              <a:buFont typeface="Wingdings" charset="2"/>
              <a:buChar char=""/>
              <a:tabLst>
                <a:tab algn="l" pos="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1440" indent="544320" algn="ctr">
              <a:spcBef>
                <a:spcPts val="476"/>
              </a:spcBef>
              <a:buClr>
                <a:srgbClr val="c99a17"/>
              </a:buClr>
              <a:buFont typeface="Arial"/>
              <a:buChar char="–"/>
              <a:tabLst>
                <a:tab algn="l" pos="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1711440" indent="54432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1711440" indent="54432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2680" y="144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pt-BR" sz="3400" spc="-1" strike="noStrike">
                <a:solidFill>
                  <a:srgbClr val="5f5f5f"/>
                </a:solidFill>
                <a:latin typeface="Arial"/>
              </a:rPr>
              <a:t>Gerência de “Portfolio” de Projetos</a:t>
            </a:r>
            <a:endParaRPr b="0" i="1" lang="en-US" sz="3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11400" y="3685680"/>
            <a:ext cx="6934320" cy="17528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003192"/>
                </a:solidFill>
                <a:latin typeface="Arial"/>
              </a:rPr>
              <a:t>José Roberto Blaschek</a:t>
            </a: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400" spc="-1" strike="noStrike">
                <a:solidFill>
                  <a:srgbClr val="003192"/>
                </a:solidFill>
                <a:latin typeface="Arial"/>
              </a:rPr>
              <a:t>blaschek@attglobal.net</a:t>
            </a:r>
            <a:endParaRPr b="0" lang="en-US" sz="2400" spc="-1" strike="noStrike">
              <a:solidFill>
                <a:srgbClr val="00319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94960" y="38160"/>
            <a:ext cx="8286840" cy="838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pt-BR" sz="3400" spc="-1" strike="noStrike">
                <a:solidFill>
                  <a:srgbClr val="5f5f5f"/>
                </a:solidFill>
                <a:latin typeface="Arial"/>
              </a:rPr>
              <a:t>Tamanho do Portfolio </a:t>
            </a:r>
            <a:endParaRPr b="0" i="1" lang="en-US" sz="3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37760" y="1385640"/>
            <a:ext cx="9029880" cy="50482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marL="4572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3200" spc="-1" strike="noStrike">
                <a:solidFill>
                  <a:srgbClr val="003192"/>
                </a:solidFill>
                <a:latin typeface="Arial"/>
              </a:rPr>
              <a:t>Restrições:</a:t>
            </a: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3200" spc="-1" strike="noStrike">
                <a:solidFill>
                  <a:srgbClr val="003192"/>
                </a:solidFill>
                <a:latin typeface="Arial"/>
              </a:rPr>
              <a:t>Recursos disponíveis para investir.</a:t>
            </a: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3200" spc="-1" strike="noStrike">
                <a:solidFill>
                  <a:srgbClr val="003192"/>
                </a:solidFill>
                <a:latin typeface="Arial"/>
              </a:rPr>
              <a:t>Recursos estratégicos disponíveis.</a:t>
            </a: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94960" y="38160"/>
            <a:ext cx="8286840" cy="838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pt-BR" sz="3400" spc="-1" strike="noStrike">
                <a:solidFill>
                  <a:srgbClr val="5f5f5f"/>
                </a:solidFill>
                <a:latin typeface="Arial"/>
              </a:rPr>
              <a:t>Análise de Portfolio (Quatro Variáveis)</a:t>
            </a:r>
            <a:endParaRPr b="0" i="1" lang="en-US" sz="3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86080" y="1352520"/>
            <a:ext cx="0" cy="466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86080" y="6039000"/>
            <a:ext cx="48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-43200" bIns="-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848040" y="1390680"/>
            <a:ext cx="0" cy="464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86080" y="36385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-43200" bIns="-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9640" y="1303200"/>
            <a:ext cx="610920" cy="4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01960" y="5894280"/>
            <a:ext cx="315360" cy="4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173280" y="6161040"/>
            <a:ext cx="610920" cy="4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160" y="3017880"/>
            <a:ext cx="129852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alor Pres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$ ou objetiv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52520" y="6161040"/>
            <a:ext cx="812160" cy="4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866960" y="2076480"/>
            <a:ext cx="1295280" cy="533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90600" y="3886200"/>
            <a:ext cx="457200" cy="10098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05240" y="1847880"/>
            <a:ext cx="800280" cy="16765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91040" y="4191120"/>
            <a:ext cx="495360" cy="16761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267600" y="1333440"/>
            <a:ext cx="6508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86680" y="2324160"/>
            <a:ext cx="650520" cy="247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31080" y="2255760"/>
            <a:ext cx="282240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jetos que visam fatores exter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912000" y="1246320"/>
            <a:ext cx="282240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jetos que visam aprimoramento in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32400" y="3094200"/>
            <a:ext cx="327348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eenchimento: origem do projeto (TI, Marketing.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94960" y="38160"/>
            <a:ext cx="8286840" cy="838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pt-BR" sz="3400" spc="-1" strike="noStrike">
                <a:solidFill>
                  <a:srgbClr val="5f5f5f"/>
                </a:solidFill>
                <a:latin typeface="Arial"/>
              </a:rPr>
              <a:t>Análise de Portfolio – Passo 2</a:t>
            </a:r>
            <a:endParaRPr b="0" i="1" lang="en-US" sz="3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38120" y="1271520"/>
            <a:ext cx="9029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94960" y="38160"/>
            <a:ext cx="8286840" cy="838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pt-BR" sz="3400" spc="-1" strike="noStrike">
                <a:solidFill>
                  <a:srgbClr val="5f5f5f"/>
                </a:solidFill>
                <a:latin typeface="Arial"/>
              </a:rPr>
              <a:t>Análise de Portfolio – Passo 3</a:t>
            </a:r>
            <a:endParaRPr b="0" i="1" lang="en-US" sz="3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843120" y="1233360"/>
            <a:ext cx="844704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94960" y="38160"/>
            <a:ext cx="8286840" cy="838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pt-BR" sz="3400" spc="-1" strike="noStrike">
                <a:solidFill>
                  <a:srgbClr val="5f5f5f"/>
                </a:solidFill>
                <a:latin typeface="Arial"/>
              </a:rPr>
              <a:t>Referências Bibliográficas</a:t>
            </a:r>
            <a:endParaRPr b="0" i="1" lang="en-US" sz="3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37760" y="1385640"/>
            <a:ext cx="9029880" cy="50482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marL="457200" indent="-457200">
              <a:lnSpc>
                <a:spcPct val="14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003192"/>
                </a:solidFill>
                <a:latin typeface="Arial"/>
              </a:rPr>
              <a:t>IT Project Portfolio Management; Stephen S. Bonham; Artech House Publishers; 2004. </a:t>
            </a: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003192"/>
                </a:solidFill>
                <a:latin typeface="Arial"/>
              </a:rPr>
              <a:t>Advanced Project Portfolio Management and the PMO: Multiplying ROI at Warp Speed; Gerald I. Kendall, Steve C. Rollins; Ross Publishing; 2003.</a:t>
            </a: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94960" y="38160"/>
            <a:ext cx="8286840" cy="838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pt-BR" sz="3400" spc="-1" strike="noStrike">
                <a:solidFill>
                  <a:srgbClr val="5f5f5f"/>
                </a:solidFill>
                <a:latin typeface="Arial"/>
              </a:rPr>
              <a:t>Problemas do “Portfolio” de Projetos</a:t>
            </a:r>
            <a:endParaRPr b="0" i="1" lang="en-US" sz="3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37760" y="1385640"/>
            <a:ext cx="9029880" cy="50482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marL="457200" indent="-457200"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3200" spc="-1" strike="noStrike">
                <a:solidFill>
                  <a:srgbClr val="003192"/>
                </a:solidFill>
                <a:latin typeface="Arial"/>
              </a:rPr>
              <a:t>Muitos projetos ativos (freqüentemente o dobro do que a organização suporta).</a:t>
            </a: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3200" spc="-1" strike="noStrike">
                <a:solidFill>
                  <a:srgbClr val="003192"/>
                </a:solidFill>
                <a:latin typeface="Arial"/>
              </a:rPr>
              <a:t>Projetos errados (projetos que não agregam valor à organização).</a:t>
            </a: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3200" spc="-1" strike="noStrike">
                <a:solidFill>
                  <a:srgbClr val="003192"/>
                </a:solidFill>
                <a:latin typeface="Arial"/>
              </a:rPr>
              <a:t>Projetos não alinhados com objetivos estratégicos.</a:t>
            </a: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94960" y="38160"/>
            <a:ext cx="8286840" cy="838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pt-BR" sz="34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i="1" lang="pt-BR" sz="3400" spc="-1" strike="noStrike">
                <a:solidFill>
                  <a:srgbClr val="5f5f5f"/>
                </a:solidFill>
                <a:latin typeface="Arial"/>
              </a:rPr>
              <a:t>Portfolio” Desbalanceado</a:t>
            </a:r>
            <a:endParaRPr b="0" i="1" lang="en-US" sz="3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7760" y="1385640"/>
            <a:ext cx="9029880" cy="50482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800" spc="-1" strike="noStrike">
                <a:solidFill>
                  <a:srgbClr val="003192"/>
                </a:solidFill>
                <a:latin typeface="Arial"/>
              </a:rPr>
              <a:t>Muito desenvolvimento e pouca pesquisa.</a:t>
            </a:r>
            <a:endParaRPr b="0" lang="en-US" sz="2800" spc="-1" strike="noStrike">
              <a:solidFill>
                <a:srgbClr val="003192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800" spc="-1" strike="noStrike">
                <a:solidFill>
                  <a:srgbClr val="003192"/>
                </a:solidFill>
                <a:latin typeface="Arial"/>
              </a:rPr>
              <a:t>Concentração de projetos em um cliente.</a:t>
            </a:r>
            <a:endParaRPr b="0" lang="en-US" sz="2800" spc="-1" strike="noStrike">
              <a:solidFill>
                <a:srgbClr val="003192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800" spc="-1" strike="noStrike">
                <a:solidFill>
                  <a:srgbClr val="003192"/>
                </a:solidFill>
                <a:latin typeface="Arial"/>
              </a:rPr>
              <a:t>Muitos projetos com governo.</a:t>
            </a:r>
            <a:endParaRPr b="0" lang="en-US" sz="2800" spc="-1" strike="noStrike">
              <a:solidFill>
                <a:srgbClr val="003192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800" spc="-1" strike="noStrike">
                <a:solidFill>
                  <a:srgbClr val="003192"/>
                </a:solidFill>
                <a:latin typeface="Arial"/>
              </a:rPr>
              <a:t>Muitos projetos de curto prazo.</a:t>
            </a:r>
            <a:endParaRPr b="0" lang="en-US" sz="2800" spc="-1" strike="noStrike">
              <a:solidFill>
                <a:srgbClr val="003192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800" spc="-1" strike="noStrike">
                <a:solidFill>
                  <a:srgbClr val="003192"/>
                </a:solidFill>
                <a:latin typeface="Arial"/>
              </a:rPr>
              <a:t>Muitos projetos com tecnologia ultrapassada.</a:t>
            </a:r>
            <a:endParaRPr b="0" lang="en-US" sz="2800" spc="-1" strike="noStrike">
              <a:solidFill>
                <a:srgbClr val="003192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800" spc="-1" strike="noStrike">
                <a:solidFill>
                  <a:srgbClr val="003192"/>
                </a:solidFill>
                <a:latin typeface="Arial"/>
              </a:rPr>
              <a:t>Não utilizam os melhores ativos da organização.</a:t>
            </a:r>
            <a:endParaRPr b="0" lang="en-US" sz="2800" spc="-1" strike="noStrike">
              <a:solidFill>
                <a:srgbClr val="003192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800" spc="-1" strike="noStrike">
                <a:solidFill>
                  <a:srgbClr val="003192"/>
                </a:solidFill>
                <a:latin typeface="Arial"/>
              </a:rPr>
              <a:t>Não utilizam recursos com valores estratégicos.</a:t>
            </a:r>
            <a:endParaRPr b="0" lang="en-US" sz="2800" spc="-1" strike="noStrike">
              <a:solidFill>
                <a:srgbClr val="003192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800" spc="-1" strike="noStrike">
                <a:solidFill>
                  <a:srgbClr val="003192"/>
                </a:solidFill>
                <a:latin typeface="Arial"/>
              </a:rPr>
              <a:t>Não refletem boas oportunidades de lucro. </a:t>
            </a:r>
            <a:endParaRPr b="0" lang="en-US" sz="2800" spc="-1" strike="noStrike">
              <a:solidFill>
                <a:srgbClr val="003192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800" spc="-1" strike="noStrike">
                <a:solidFill>
                  <a:srgbClr val="003192"/>
                </a:solidFill>
                <a:latin typeface="Arial"/>
              </a:rPr>
              <a:t>Riscos elevados.</a:t>
            </a:r>
            <a:endParaRPr b="0" lang="en-US" sz="2800" spc="-1" strike="noStrike">
              <a:solidFill>
                <a:srgbClr val="00319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4960" y="38160"/>
            <a:ext cx="8286840" cy="838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pt-BR" sz="3400" spc="-1" strike="noStrike">
                <a:solidFill>
                  <a:srgbClr val="5f5f5f"/>
                </a:solidFill>
                <a:latin typeface="Arial"/>
              </a:rPr>
              <a:t>Razão dos Problemas</a:t>
            </a:r>
            <a:endParaRPr b="0" i="1" lang="en-US" sz="3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7760" y="1385640"/>
            <a:ext cx="9029880" cy="50482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marL="457200" indent="-4572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3200" spc="-1" strike="noStrike">
                <a:solidFill>
                  <a:srgbClr val="003192"/>
                </a:solidFill>
                <a:latin typeface="Arial"/>
              </a:rPr>
              <a:t>Poucos projetos possuem um retorno sobre investimentos claro ou definido.</a:t>
            </a: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3200" spc="-1" strike="noStrike">
                <a:solidFill>
                  <a:srgbClr val="003192"/>
                </a:solidFill>
                <a:latin typeface="Arial"/>
              </a:rPr>
              <a:t>Mesmo projetos com alto retorno acabam competindo pelos mesmos recursos.</a:t>
            </a: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pt-BR" sz="3200" spc="-1" strike="noStrike">
                <a:solidFill>
                  <a:srgbClr val="003192"/>
                </a:solidFill>
                <a:latin typeface="Arial"/>
              </a:rPr>
              <a:t>“</a:t>
            </a:r>
            <a:r>
              <a:rPr b="0" i="1" lang="pt-BR" sz="3200" spc="-1" strike="noStrike">
                <a:solidFill>
                  <a:srgbClr val="003192"/>
                </a:solidFill>
                <a:latin typeface="Arial"/>
              </a:rPr>
              <a:t>Portfolio”</a:t>
            </a:r>
            <a:r>
              <a:rPr b="0" lang="pt-BR" sz="3200" spc="-1" strike="noStrike">
                <a:solidFill>
                  <a:srgbClr val="003192"/>
                </a:solidFill>
                <a:latin typeface="Arial"/>
              </a:rPr>
              <a:t> não é adequadamente. documentado e gerenciado de forma explícita.</a:t>
            </a: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3200" spc="-1" strike="noStrike">
                <a:solidFill>
                  <a:srgbClr val="003192"/>
                </a:solidFill>
                <a:latin typeface="Arial"/>
              </a:rPr>
              <a:t>Relacionamento entre projetos não é considerado.</a:t>
            </a: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319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94960" y="38160"/>
            <a:ext cx="8286840" cy="838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pt-BR" sz="3400" spc="-1" strike="noStrike">
                <a:solidFill>
                  <a:srgbClr val="5f5f5f"/>
                </a:solidFill>
                <a:latin typeface="Arial"/>
              </a:rPr>
              <a:t>Gerência de Portfolio de Projetos (PPM)</a:t>
            </a:r>
            <a:endParaRPr b="0" i="1" lang="en-US" sz="3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7760" y="1385640"/>
            <a:ext cx="9029880" cy="50482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marL="457200" indent="-457200">
              <a:lnSpc>
                <a:spcPct val="17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800" spc="-1" strike="noStrike">
                <a:solidFill>
                  <a:srgbClr val="003192"/>
                </a:solidFill>
                <a:latin typeface="Arial"/>
              </a:rPr>
              <a:t>Garantir que a coleção de projetos atinge aos objetivos da organização.</a:t>
            </a:r>
            <a:endParaRPr b="0" lang="en-US" sz="2800" spc="-1" strike="noStrike">
              <a:solidFill>
                <a:srgbClr val="003192"/>
              </a:solidFill>
              <a:latin typeface="Arial"/>
            </a:endParaRPr>
          </a:p>
          <a:p>
            <a:pPr marL="457200" indent="-457200">
              <a:lnSpc>
                <a:spcPct val="17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800" spc="-1" strike="noStrike">
                <a:solidFill>
                  <a:srgbClr val="003192"/>
                </a:solidFill>
                <a:latin typeface="Arial"/>
              </a:rPr>
              <a:t>Responde às perguntas:</a:t>
            </a:r>
            <a:endParaRPr b="0" lang="en-US" sz="2800" spc="-1" strike="noStrike">
              <a:solidFill>
                <a:srgbClr val="003192"/>
              </a:solidFill>
              <a:latin typeface="Arial"/>
            </a:endParaRPr>
          </a:p>
          <a:p>
            <a:pPr lvl="1" marL="990720" indent="-354240">
              <a:lnSpc>
                <a:spcPct val="170000"/>
              </a:lnSpc>
              <a:spcBef>
                <a:spcPts val="601"/>
              </a:spcBef>
              <a:buClr>
                <a:srgbClr val="c99a17"/>
              </a:buClr>
              <a:buFont typeface="Wingdings" charset="2"/>
              <a:buChar char="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5f5f5f"/>
                </a:solidFill>
                <a:latin typeface="Arial"/>
              </a:rPr>
              <a:t>Qual o valor de meu portfolio?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990720" indent="-354240">
              <a:lnSpc>
                <a:spcPct val="170000"/>
              </a:lnSpc>
              <a:spcBef>
                <a:spcPts val="601"/>
              </a:spcBef>
              <a:buClr>
                <a:srgbClr val="c99a17"/>
              </a:buClr>
              <a:buFont typeface="Wingdings" charset="2"/>
              <a:buChar char="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5f5f5f"/>
                </a:solidFill>
                <a:latin typeface="Arial"/>
              </a:rPr>
              <a:t>Como ele evoluiu em relação ao último período?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990720" indent="-354240">
              <a:lnSpc>
                <a:spcPct val="170000"/>
              </a:lnSpc>
              <a:spcBef>
                <a:spcPts val="601"/>
              </a:spcBef>
              <a:buClr>
                <a:srgbClr val="c99a17"/>
              </a:buClr>
              <a:buFont typeface="Wingdings" charset="2"/>
              <a:buChar char="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5f5f5f"/>
                </a:solidFill>
                <a:latin typeface="Arial"/>
              </a:rPr>
              <a:t>Como ele deve evoluir?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99072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94960" y="38160"/>
            <a:ext cx="8286840" cy="838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pt-BR" sz="3000" spc="-1" strike="noStrike">
                <a:solidFill>
                  <a:srgbClr val="5f5f5f"/>
                </a:solidFill>
                <a:latin typeface="Arial"/>
              </a:rPr>
              <a:t>Responsabilidades da Gerência de Portfolio</a:t>
            </a:r>
            <a:endParaRPr b="0" i="1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7760" y="1385640"/>
            <a:ext cx="9029880" cy="50482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003192"/>
                </a:solidFill>
                <a:latin typeface="Arial"/>
              </a:rPr>
              <a:t>Determinar um “</a:t>
            </a:r>
            <a:r>
              <a:rPr b="0" i="1" lang="en-US" sz="2400" spc="-1" strike="noStrike">
                <a:solidFill>
                  <a:srgbClr val="003192"/>
                </a:solidFill>
                <a:latin typeface="Arial"/>
              </a:rPr>
              <a:t>mix”</a:t>
            </a:r>
            <a:r>
              <a:rPr b="0" lang="pt-BR" sz="2400" spc="-1" strike="noStrike">
                <a:solidFill>
                  <a:srgbClr val="003192"/>
                </a:solidFill>
                <a:latin typeface="Arial"/>
              </a:rPr>
              <a:t> de projetos viáveis, que atendam aos objetivos da organização.</a:t>
            </a:r>
            <a:endParaRPr b="0" lang="en-US" sz="2400" spc="-1" strike="noStrike">
              <a:solidFill>
                <a:srgbClr val="003192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003192"/>
                </a:solidFill>
                <a:latin typeface="Arial"/>
              </a:rPr>
              <a:t>Balancear o portfolio para garantir um  “</a:t>
            </a:r>
            <a:r>
              <a:rPr b="0" i="1" lang="en-US" sz="2400" spc="-1" strike="noStrike">
                <a:solidFill>
                  <a:srgbClr val="003192"/>
                </a:solidFill>
                <a:latin typeface="Arial"/>
              </a:rPr>
              <a:t>mix</a:t>
            </a:r>
            <a:r>
              <a:rPr b="0" lang="en-US" sz="2400" spc="-1" strike="noStrike">
                <a:solidFill>
                  <a:srgbClr val="003192"/>
                </a:solidFill>
                <a:latin typeface="Arial"/>
              </a:rPr>
              <a:t>”</a:t>
            </a:r>
            <a:r>
              <a:rPr b="0" lang="pt-BR" sz="2400" spc="-1" strike="noStrike">
                <a:solidFill>
                  <a:srgbClr val="003192"/>
                </a:solidFill>
                <a:latin typeface="Arial"/>
              </a:rPr>
              <a:t> de projetos de longo e curto prazo, com alto e baixo risco, pesquisa e desenvolvimento, etc.</a:t>
            </a:r>
            <a:endParaRPr b="0" lang="en-US" sz="2400" spc="-1" strike="noStrike">
              <a:solidFill>
                <a:srgbClr val="003192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003192"/>
                </a:solidFill>
                <a:latin typeface="Arial"/>
              </a:rPr>
              <a:t>Monitorar o planejamento e execução dos projetos selecionados.</a:t>
            </a:r>
            <a:endParaRPr b="0" lang="en-US" sz="2400" spc="-1" strike="noStrike">
              <a:solidFill>
                <a:srgbClr val="003192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003192"/>
                </a:solidFill>
                <a:latin typeface="Arial"/>
              </a:rPr>
              <a:t>Analisar o desempenho do portfolio e maneiras de aprimorá-lo.</a:t>
            </a:r>
            <a:endParaRPr b="0" lang="en-US" sz="2400" spc="-1" strike="noStrike">
              <a:solidFill>
                <a:srgbClr val="003192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003192"/>
                </a:solidFill>
                <a:latin typeface="Arial"/>
              </a:rPr>
              <a:t>Avaliar novas oportunidades, levando em consideração os projetos existentes e a capacidade da organização.</a:t>
            </a:r>
            <a:endParaRPr b="0" lang="en-US" sz="2400" spc="-1" strike="noStrike">
              <a:solidFill>
                <a:srgbClr val="003192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003192"/>
                </a:solidFill>
                <a:latin typeface="Arial"/>
              </a:rPr>
              <a:t>Fornecer informações e recomendações aos tomadores de decisão.   </a:t>
            </a:r>
            <a:endParaRPr b="0" lang="en-US" sz="2400" spc="-1" strike="noStrike">
              <a:solidFill>
                <a:srgbClr val="00319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94960" y="38160"/>
            <a:ext cx="8286840" cy="838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pt-BR" sz="3400" spc="-1" strike="noStrike">
                <a:solidFill>
                  <a:srgbClr val="5f5f5f"/>
                </a:solidFill>
                <a:latin typeface="Arial"/>
              </a:rPr>
              <a:t>Processo de Gerência de Portfolio</a:t>
            </a:r>
            <a:endParaRPr b="0" i="1" lang="en-US" sz="3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37760" y="1385640"/>
            <a:ext cx="9029880" cy="50482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marL="361800" indent="-361800">
              <a:lnSpc>
                <a:spcPct val="110000"/>
              </a:lnSpc>
              <a:spcBef>
                <a:spcPts val="601"/>
              </a:spcBef>
              <a:buClr>
                <a:srgbClr val="c99a17"/>
              </a:buClr>
              <a:buSzPct val="90000"/>
              <a:buFont typeface="Arial"/>
              <a:buAutoNum type="arabicPeriod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003192"/>
                </a:solidFill>
                <a:latin typeface="Arial"/>
              </a:rPr>
              <a:t>Obter e disseminar informações sobre o portfolio existente.</a:t>
            </a:r>
            <a:endParaRPr b="0" lang="en-US" sz="2400" spc="-1" strike="noStrike">
              <a:solidFill>
                <a:srgbClr val="003192"/>
              </a:solidFill>
              <a:latin typeface="Arial"/>
            </a:endParaRPr>
          </a:p>
          <a:p>
            <a:pPr marL="361800" indent="-361800">
              <a:lnSpc>
                <a:spcPct val="110000"/>
              </a:lnSpc>
              <a:spcBef>
                <a:spcPts val="601"/>
              </a:spcBef>
              <a:buClr>
                <a:srgbClr val="c99a17"/>
              </a:buClr>
              <a:buSzPct val="90000"/>
              <a:buFont typeface="Arial"/>
              <a:buAutoNum type="arabicPeriod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003192"/>
                </a:solidFill>
                <a:latin typeface="Arial"/>
              </a:rPr>
              <a:t>Definir objetivos, valores e recursos do portfolio.</a:t>
            </a:r>
            <a:endParaRPr b="0" lang="en-US" sz="2400" spc="-1" strike="noStrike">
              <a:solidFill>
                <a:srgbClr val="003192"/>
              </a:solidFill>
              <a:latin typeface="Arial"/>
            </a:endParaRPr>
          </a:p>
          <a:p>
            <a:pPr marL="361800" indent="-361800">
              <a:lnSpc>
                <a:spcPct val="110000"/>
              </a:lnSpc>
              <a:spcBef>
                <a:spcPts val="601"/>
              </a:spcBef>
              <a:buClr>
                <a:srgbClr val="c99a17"/>
              </a:buClr>
              <a:buSzPct val="90000"/>
              <a:buFont typeface="Arial"/>
              <a:buAutoNum type="arabicPeriod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003192"/>
                </a:solidFill>
                <a:latin typeface="Arial"/>
              </a:rPr>
              <a:t>Relacionar projetos, objetivos, valores e recursos e realizar uma análise preliminar.</a:t>
            </a:r>
            <a:endParaRPr b="0" lang="en-US" sz="2400" spc="-1" strike="noStrike">
              <a:solidFill>
                <a:srgbClr val="003192"/>
              </a:solidFill>
              <a:latin typeface="Arial"/>
            </a:endParaRPr>
          </a:p>
          <a:p>
            <a:pPr marL="361800" indent="-361800">
              <a:lnSpc>
                <a:spcPct val="110000"/>
              </a:lnSpc>
              <a:spcBef>
                <a:spcPts val="601"/>
              </a:spcBef>
              <a:buClr>
                <a:srgbClr val="c99a17"/>
              </a:buClr>
              <a:buSzPct val="90000"/>
              <a:buFont typeface="Arial"/>
              <a:buAutoNum type="arabicPeriod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003192"/>
                </a:solidFill>
                <a:latin typeface="Arial"/>
              </a:rPr>
              <a:t>Determinar a estratégia de múltiplos projetos da organização.</a:t>
            </a:r>
            <a:endParaRPr b="0" lang="en-US" sz="2400" spc="-1" strike="noStrike">
              <a:solidFill>
                <a:srgbClr val="003192"/>
              </a:solidFill>
              <a:latin typeface="Arial"/>
            </a:endParaRPr>
          </a:p>
          <a:p>
            <a:pPr marL="361800" indent="-361800">
              <a:lnSpc>
                <a:spcPct val="110000"/>
              </a:lnSpc>
              <a:spcBef>
                <a:spcPts val="601"/>
              </a:spcBef>
              <a:buClr>
                <a:srgbClr val="c99a17"/>
              </a:buClr>
              <a:buSzPct val="90000"/>
              <a:buFont typeface="Arial"/>
              <a:buAutoNum type="arabicPeriod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003192"/>
                </a:solidFill>
                <a:latin typeface="Arial"/>
              </a:rPr>
              <a:t>Priorizar o portfolio de acordo com a estratégia definida.</a:t>
            </a:r>
            <a:endParaRPr b="0" lang="en-US" sz="2400" spc="-1" strike="noStrike">
              <a:solidFill>
                <a:srgbClr val="003192"/>
              </a:solidFill>
              <a:latin typeface="Arial"/>
            </a:endParaRPr>
          </a:p>
          <a:p>
            <a:pPr marL="361800" indent="-361800">
              <a:lnSpc>
                <a:spcPct val="110000"/>
              </a:lnSpc>
              <a:spcBef>
                <a:spcPts val="601"/>
              </a:spcBef>
              <a:buClr>
                <a:srgbClr val="c99a17"/>
              </a:buClr>
              <a:buSzPct val="90000"/>
              <a:buFont typeface="Arial"/>
              <a:buAutoNum type="arabicPeriod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003192"/>
                </a:solidFill>
                <a:latin typeface="Arial"/>
              </a:rPr>
              <a:t>Analisar o balanceamento do portfolio.</a:t>
            </a:r>
            <a:endParaRPr b="0" lang="en-US" sz="2400" spc="-1" strike="noStrike">
              <a:solidFill>
                <a:srgbClr val="003192"/>
              </a:solidFill>
              <a:latin typeface="Arial"/>
            </a:endParaRPr>
          </a:p>
          <a:p>
            <a:pPr marL="361800" indent="-361800">
              <a:lnSpc>
                <a:spcPct val="110000"/>
              </a:lnSpc>
              <a:spcBef>
                <a:spcPts val="601"/>
              </a:spcBef>
              <a:buClr>
                <a:srgbClr val="c99a17"/>
              </a:buClr>
              <a:buSzPct val="90000"/>
              <a:buFont typeface="Arial"/>
              <a:buAutoNum type="arabicPeriod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003192"/>
                </a:solidFill>
                <a:latin typeface="Arial"/>
              </a:rPr>
              <a:t>Desenvolver recomendações para melhorar o retorno de investimento.</a:t>
            </a:r>
            <a:endParaRPr b="0" lang="en-US" sz="2400" spc="-1" strike="noStrike">
              <a:solidFill>
                <a:srgbClr val="003192"/>
              </a:solidFill>
              <a:latin typeface="Arial"/>
            </a:endParaRPr>
          </a:p>
          <a:p>
            <a:pPr marL="361800" indent="-361800">
              <a:lnSpc>
                <a:spcPct val="110000"/>
              </a:lnSpc>
              <a:spcBef>
                <a:spcPts val="601"/>
              </a:spcBef>
              <a:buClr>
                <a:srgbClr val="c99a17"/>
              </a:buClr>
              <a:buSzPct val="90000"/>
              <a:buFont typeface="Arial"/>
              <a:buAutoNum type="arabicPeriod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003192"/>
                </a:solidFill>
                <a:latin typeface="Arial"/>
              </a:rPr>
              <a:t>Promover reuniões com pessoas com poder de decisão e reportar as observações.</a:t>
            </a:r>
            <a:endParaRPr b="0" lang="en-US" sz="2400" spc="-1" strike="noStrike">
              <a:solidFill>
                <a:srgbClr val="003192"/>
              </a:solidFill>
              <a:latin typeface="Arial"/>
            </a:endParaRPr>
          </a:p>
          <a:p>
            <a:pPr marL="361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400" spc="-1" strike="noStrike">
              <a:solidFill>
                <a:srgbClr val="00319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94960" y="38160"/>
            <a:ext cx="8286840" cy="838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pt-BR" sz="3400" spc="-1" strike="noStrike">
                <a:solidFill>
                  <a:srgbClr val="5f5f5f"/>
                </a:solidFill>
                <a:latin typeface="Arial"/>
              </a:rPr>
              <a:t>Processo de Gerência de Portfolio</a:t>
            </a:r>
            <a:endParaRPr b="0" i="1" lang="en-US" sz="34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980080" y="1693080"/>
            <a:ext cx="4159440" cy="421920"/>
            <a:chOff x="2980080" y="1693080"/>
            <a:chExt cx="4159440" cy="421920"/>
          </a:xfrm>
        </p:grpSpPr>
        <p:sp>
          <p:nvSpPr>
            <p:cNvPr id="100" name=""/>
            <p:cNvSpPr/>
            <p:nvPr/>
          </p:nvSpPr>
          <p:spPr>
            <a:xfrm>
              <a:off x="2980080" y="1693080"/>
              <a:ext cx="1619640" cy="4219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3200" bIns="43200" anchor="ctr">
              <a:sp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0"/>
                  <a:tab algn="l" pos="855720"/>
                  <a:tab algn="l" pos="1711440"/>
                  <a:tab algn="l" pos="2567160"/>
                  <a:tab algn="l" pos="3422520"/>
                  <a:tab algn="l" pos="4278240"/>
                  <a:tab algn="l" pos="5133960"/>
                  <a:tab algn="l" pos="5989680"/>
                  <a:tab algn="l" pos="6845400"/>
                  <a:tab algn="l" pos="7701120"/>
                  <a:tab algn="l" pos="8556480"/>
                  <a:tab algn="l" pos="9412200"/>
                  <a:tab algn="l" pos="1026792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Organizaç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20120" y="1693080"/>
              <a:ext cx="1319400" cy="4219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3200" bIns="43200" anchor="ctr">
              <a:sp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0"/>
                  <a:tab algn="l" pos="855720"/>
                  <a:tab algn="l" pos="1711440"/>
                  <a:tab algn="l" pos="2567160"/>
                  <a:tab algn="l" pos="3422520"/>
                  <a:tab algn="l" pos="4278240"/>
                  <a:tab algn="l" pos="5133960"/>
                  <a:tab algn="l" pos="5989680"/>
                  <a:tab algn="l" pos="6845400"/>
                  <a:tab algn="l" pos="7701120"/>
                  <a:tab algn="l" pos="8556480"/>
                  <a:tab algn="l" pos="9412200"/>
                  <a:tab algn="l" pos="1026792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Estratég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728640" y="2508120"/>
            <a:ext cx="7483320" cy="909720"/>
            <a:chOff x="728640" y="2508120"/>
            <a:chExt cx="7483320" cy="909720"/>
          </a:xfrm>
        </p:grpSpPr>
        <p:sp>
          <p:nvSpPr>
            <p:cNvPr id="103" name=""/>
            <p:cNvSpPr/>
            <p:nvPr/>
          </p:nvSpPr>
          <p:spPr>
            <a:xfrm>
              <a:off x="728640" y="2646000"/>
              <a:ext cx="2293920" cy="635400"/>
            </a:xfrm>
            <a:prstGeom prst="flowChartProcess">
              <a:avLst/>
            </a:prstGeom>
            <a:solidFill>
              <a:srgbClr val="efe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ctr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855720"/>
                  <a:tab algn="l" pos="1711440"/>
                  <a:tab algn="l" pos="2567160"/>
                  <a:tab algn="l" pos="3422520"/>
                  <a:tab algn="l" pos="4278240"/>
                  <a:tab algn="l" pos="5133960"/>
                  <a:tab algn="l" pos="5989680"/>
                  <a:tab algn="l" pos="6845400"/>
                  <a:tab algn="l" pos="7701120"/>
                  <a:tab algn="l" pos="8556480"/>
                  <a:tab algn="l" pos="9412200"/>
                  <a:tab algn="l" pos="1026792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Processo único / múltiplo proje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010040" y="2508120"/>
              <a:ext cx="2198520" cy="909720"/>
            </a:xfrm>
            <a:prstGeom prst="flowChartProcess">
              <a:avLst/>
            </a:prstGeom>
            <a:solidFill>
              <a:srgbClr val="efe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ctr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855720"/>
                  <a:tab algn="l" pos="1711440"/>
                  <a:tab algn="l" pos="2567160"/>
                  <a:tab algn="l" pos="3422520"/>
                  <a:tab algn="l" pos="4278240"/>
                  <a:tab algn="l" pos="5133960"/>
                  <a:tab algn="l" pos="5989680"/>
                  <a:tab algn="l" pos="6845400"/>
                  <a:tab algn="l" pos="7701120"/>
                  <a:tab algn="l" pos="8556480"/>
                  <a:tab algn="l" pos="9412200"/>
                  <a:tab algn="l" pos="1026792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Processo de Gerência do Portfol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96040" y="2735640"/>
              <a:ext cx="1015920" cy="452520"/>
            </a:xfrm>
            <a:prstGeom prst="flowChartProcess">
              <a:avLst/>
            </a:prstGeom>
            <a:solidFill>
              <a:srgbClr val="efe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ctr" anchorCtr="1">
              <a:sp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855720"/>
                  <a:tab algn="l" pos="1711440"/>
                  <a:tab algn="l" pos="2567160"/>
                  <a:tab algn="l" pos="3422520"/>
                  <a:tab algn="l" pos="4278240"/>
                  <a:tab algn="l" pos="5133960"/>
                  <a:tab algn="l" pos="5989680"/>
                  <a:tab algn="l" pos="6845400"/>
                  <a:tab algn="l" pos="7701120"/>
                  <a:tab algn="l" pos="8556480"/>
                  <a:tab algn="l" pos="9412200"/>
                  <a:tab algn="l" pos="1026792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Anál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3916440" y="3924720"/>
            <a:ext cx="2403360" cy="818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sp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trada e Saída de Informa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70080" y="5272200"/>
            <a:ext cx="1236240" cy="67464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05960" y="5272200"/>
            <a:ext cx="1108080" cy="67464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je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12240" y="5272200"/>
            <a:ext cx="1252800" cy="67464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63960" y="5272200"/>
            <a:ext cx="1037880" cy="67464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 rot="5400000">
            <a:off x="1905120" y="1789560"/>
            <a:ext cx="609480" cy="647640"/>
          </a:xfrm>
          <a:custGeom>
            <a:avLst/>
            <a:gdLst>
              <a:gd name="textAreaLeft" fmla="*/ 0 w 609480"/>
              <a:gd name="textAreaRight" fmla="*/ 609840 w 609480"/>
              <a:gd name="textAreaTop" fmla="*/ -360 h 647640"/>
              <a:gd name="textAreaBottom" fmla="*/ 6476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7448400" y="1790640"/>
            <a:ext cx="609840" cy="647640"/>
          </a:xfrm>
          <a:custGeom>
            <a:avLst/>
            <a:gdLst>
              <a:gd name="textAreaLeft" fmla="*/ 360 w 609840"/>
              <a:gd name="textAreaRight" fmla="*/ 610560 w 60984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968480" y="3739320"/>
            <a:ext cx="609480" cy="647640"/>
          </a:xfrm>
          <a:custGeom>
            <a:avLst/>
            <a:gdLst>
              <a:gd name="textAreaLeft" fmla="*/ 0 w 609480"/>
              <a:gd name="textAreaRight" fmla="*/ 609840 w 609480"/>
              <a:gd name="textAreaTop" fmla="*/ -360 h 647640"/>
              <a:gd name="textAreaBottom" fmla="*/ 6476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 rot="16200000">
            <a:off x="7206840" y="3777480"/>
            <a:ext cx="609480" cy="647640"/>
          </a:xfrm>
          <a:custGeom>
            <a:avLst/>
            <a:gdLst>
              <a:gd name="textAreaLeft" fmla="*/ 0 w 609480"/>
              <a:gd name="textAreaRight" fmla="*/ 609840 w 609480"/>
              <a:gd name="textAreaTop" fmla="*/ -360 h 647640"/>
              <a:gd name="textAreaBottom" fmla="*/ 6476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76920" y="1828800"/>
            <a:ext cx="647640" cy="133200"/>
          </a:xfrm>
          <a:prstGeom prst="leftRightArrow">
            <a:avLst>
              <a:gd name="adj1" fmla="val 50000"/>
              <a:gd name="adj2" fmla="val 9679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23760" bIns="237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338000">
            <a:off x="3339720" y="2261880"/>
            <a:ext cx="519120" cy="123840"/>
          </a:xfrm>
          <a:prstGeom prst="leftRightArrow">
            <a:avLst>
              <a:gd name="adj1" fmla="val 50000"/>
              <a:gd name="adj2" fmla="val 834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18720" bIns="187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01920" y="2948040"/>
            <a:ext cx="519120" cy="123840"/>
          </a:xfrm>
          <a:prstGeom prst="leftRightArrow">
            <a:avLst>
              <a:gd name="adj1" fmla="val 50000"/>
              <a:gd name="adj2" fmla="val 834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18720" bIns="187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07280" y="2890800"/>
            <a:ext cx="519120" cy="123840"/>
          </a:xfrm>
          <a:prstGeom prst="leftRightArrow">
            <a:avLst>
              <a:gd name="adj1" fmla="val 50000"/>
              <a:gd name="adj2" fmla="val 834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18720" bIns="187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5400000">
            <a:off x="4919400" y="3600360"/>
            <a:ext cx="406440" cy="111240"/>
          </a:xfrm>
          <a:prstGeom prst="leftRightArrow">
            <a:avLst>
              <a:gd name="adj1" fmla="val 50000"/>
              <a:gd name="adj2" fmla="val 72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12600" bIns="12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9143000">
            <a:off x="6257520" y="2327040"/>
            <a:ext cx="492120" cy="125280"/>
          </a:xfrm>
          <a:prstGeom prst="leftRightArrow">
            <a:avLst>
              <a:gd name="adj1" fmla="val 50000"/>
              <a:gd name="adj2" fmla="val 78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19440" bIns="19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9143000">
            <a:off x="2508120" y="4765680"/>
            <a:ext cx="1224000" cy="181080"/>
          </a:xfrm>
          <a:prstGeom prst="leftRightArrow">
            <a:avLst>
              <a:gd name="adj1" fmla="val 50000"/>
              <a:gd name="adj2" fmla="val 13456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4062240" y="4952880"/>
            <a:ext cx="406440" cy="110880"/>
          </a:xfrm>
          <a:prstGeom prst="leftRightArrow">
            <a:avLst>
              <a:gd name="adj1" fmla="val 50000"/>
              <a:gd name="adj2" fmla="val 72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12240" bIns="12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5624280" y="4991040"/>
            <a:ext cx="406440" cy="110880"/>
          </a:xfrm>
          <a:prstGeom prst="leftRightArrow">
            <a:avLst>
              <a:gd name="adj1" fmla="val 50000"/>
              <a:gd name="adj2" fmla="val 72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12240" bIns="12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2961800">
            <a:off x="6470280" y="4803480"/>
            <a:ext cx="1224000" cy="181080"/>
          </a:xfrm>
          <a:prstGeom prst="leftRightArrow">
            <a:avLst>
              <a:gd name="adj1" fmla="val 50000"/>
              <a:gd name="adj2" fmla="val 13456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94960" y="38160"/>
            <a:ext cx="8286840" cy="838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pt-BR" sz="3400" spc="-1" strike="noStrike">
                <a:solidFill>
                  <a:srgbClr val="5f5f5f"/>
                </a:solidFill>
                <a:latin typeface="Arial"/>
              </a:rPr>
              <a:t>Framework de Alinhamento Estratégico</a:t>
            </a:r>
            <a:endParaRPr b="0" i="1" lang="en-US" sz="3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37880" y="1170720"/>
            <a:ext cx="1703520" cy="421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gregar 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08280" y="1837440"/>
            <a:ext cx="3666960" cy="421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sp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ratégia de cresc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70440" y="1837440"/>
            <a:ext cx="3724560" cy="421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sp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ratégia de produtiv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95320" y="2677320"/>
            <a:ext cx="151956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sp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escer a 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67240" y="2677320"/>
            <a:ext cx="1900080" cy="10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sp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umentar o valor para o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57840" y="2677320"/>
            <a:ext cx="1519200" cy="10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sp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lhorar a estrutura de cu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834320" y="2677320"/>
            <a:ext cx="1690560" cy="10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sp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lhorar a utilização dos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47800" y="3589200"/>
            <a:ext cx="19368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marL="171360" indent="-171360">
              <a:lnSpc>
                <a:spcPct val="110000"/>
              </a:lnSpc>
              <a:spcBef>
                <a:spcPts val="499"/>
              </a:spcBef>
              <a:buClr>
                <a:srgbClr val="deb902"/>
              </a:buClr>
              <a:buSzPct val="120000"/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umentar a quantidade de cl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81560" y="3875040"/>
            <a:ext cx="22604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marL="171360" indent="-171360">
              <a:lnSpc>
                <a:spcPct val="110000"/>
              </a:lnSpc>
              <a:spcBef>
                <a:spcPts val="499"/>
              </a:spcBef>
              <a:buClr>
                <a:srgbClr val="deb902"/>
              </a:buClr>
              <a:buSzPct val="120000"/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agir rápido às necessidades do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53080" y="3894120"/>
            <a:ext cx="18604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marL="171360" indent="-171360">
              <a:lnSpc>
                <a:spcPct val="110000"/>
              </a:lnSpc>
              <a:spcBef>
                <a:spcPts val="499"/>
              </a:spcBef>
              <a:buClr>
                <a:srgbClr val="deb902"/>
              </a:buClr>
              <a:buSzPct val="120000"/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duzir custos da 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805880" y="3875040"/>
            <a:ext cx="18604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marL="171360" indent="-171360">
              <a:lnSpc>
                <a:spcPct val="110000"/>
              </a:lnSpc>
              <a:spcBef>
                <a:spcPts val="499"/>
              </a:spcBef>
              <a:buClr>
                <a:srgbClr val="deb902"/>
              </a:buClr>
              <a:buSzPct val="120000"/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timizar participação de líde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67000" y="3619440"/>
            <a:ext cx="228600" cy="1790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46440 h 1790640"/>
              <a:gd name="textAreaBottom" fmla="*/ 1744200 h 1790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67000" y="1181160"/>
            <a:ext cx="228600" cy="2266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59040 h 2266920"/>
              <a:gd name="textAreaBottom" fmla="*/ 2207880 h 22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62040" y="5486400"/>
            <a:ext cx="152640" cy="1143000"/>
          </a:xfrm>
          <a:custGeom>
            <a:avLst/>
            <a:gdLst>
              <a:gd name="textAreaLeft" fmla="*/ 97560 w 152640"/>
              <a:gd name="textAreaRight" fmla="*/ 15300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760" y="1951200"/>
            <a:ext cx="16495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ratégia corpor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122720"/>
            <a:ext cx="16495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icro Estraté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5818320"/>
            <a:ext cx="1287360" cy="4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á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85960" y="5737320"/>
            <a:ext cx="210816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marL="171360" indent="-171360">
              <a:lnSpc>
                <a:spcPct val="110000"/>
              </a:lnSpc>
              <a:spcBef>
                <a:spcPts val="499"/>
              </a:spcBef>
              <a:buClr>
                <a:srgbClr val="deb902"/>
              </a:buClr>
              <a:buSzPct val="120000"/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iar rede de influê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767720" y="5737320"/>
            <a:ext cx="18604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marL="171360" indent="-171360">
              <a:lnSpc>
                <a:spcPct val="110000"/>
              </a:lnSpc>
              <a:spcBef>
                <a:spcPts val="499"/>
              </a:spcBef>
              <a:buClr>
                <a:srgbClr val="deb902"/>
              </a:buClr>
              <a:buSzPct val="120000"/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iar cronogramas region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34000" y="5737320"/>
            <a:ext cx="18604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marL="171360" indent="-171360">
              <a:lnSpc>
                <a:spcPct val="110000"/>
              </a:lnSpc>
              <a:spcBef>
                <a:spcPts val="499"/>
              </a:spcBef>
              <a:buClr>
                <a:srgbClr val="deb902"/>
              </a:buClr>
              <a:buSzPct val="120000"/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gociar desco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72000" y="5737320"/>
            <a:ext cx="18604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marL="171360" indent="-171360">
              <a:lnSpc>
                <a:spcPct val="110000"/>
              </a:lnSpc>
              <a:spcBef>
                <a:spcPts val="499"/>
              </a:spcBef>
              <a:buClr>
                <a:srgbClr val="deb902"/>
              </a:buClr>
              <a:buSzPct val="120000"/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iar relatórios on-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978560" y="4927680"/>
            <a:ext cx="1194480" cy="793800"/>
            <a:chOff x="1978560" y="4927680"/>
            <a:chExt cx="1194480" cy="793800"/>
          </a:xfrm>
        </p:grpSpPr>
        <p:sp>
          <p:nvSpPr>
            <p:cNvPr id="148" name=""/>
            <p:cNvSpPr/>
            <p:nvPr/>
          </p:nvSpPr>
          <p:spPr>
            <a:xfrm>
              <a:off x="1978560" y="5075280"/>
              <a:ext cx="1194480" cy="42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3200" bIns="43200" anchor="t">
              <a:sp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0"/>
                  <a:tab algn="l" pos="855720"/>
                  <a:tab algn="l" pos="1711440"/>
                  <a:tab algn="l" pos="2567160"/>
                  <a:tab algn="l" pos="3422520"/>
                  <a:tab algn="l" pos="4278240"/>
                  <a:tab algn="l" pos="5133960"/>
                  <a:tab algn="l" pos="5989680"/>
                  <a:tab algn="l" pos="6845400"/>
                  <a:tab algn="l" pos="7701120"/>
                  <a:tab algn="l" pos="8556480"/>
                  <a:tab algn="l" pos="9412200"/>
                  <a:tab algn="l" pos="1026792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Negoci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2463840" y="5473800"/>
              <a:ext cx="209520" cy="247680"/>
            </a:xfrm>
            <a:prstGeom prst="upArrow">
              <a:avLst>
                <a:gd name="adj1" fmla="val 50000"/>
                <a:gd name="adj2" fmla="val 29553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70320" y="4927680"/>
              <a:ext cx="209520" cy="247680"/>
            </a:xfrm>
            <a:prstGeom prst="upArrow">
              <a:avLst>
                <a:gd name="adj1" fmla="val 50000"/>
                <a:gd name="adj2" fmla="val 29553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5864760" y="4889520"/>
            <a:ext cx="1194480" cy="793800"/>
            <a:chOff x="5864760" y="4889520"/>
            <a:chExt cx="1194480" cy="793800"/>
          </a:xfrm>
        </p:grpSpPr>
        <p:sp>
          <p:nvSpPr>
            <p:cNvPr id="152" name=""/>
            <p:cNvSpPr/>
            <p:nvPr/>
          </p:nvSpPr>
          <p:spPr>
            <a:xfrm>
              <a:off x="5864760" y="5037120"/>
              <a:ext cx="1194480" cy="42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3200" bIns="43200" anchor="t">
              <a:sp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0"/>
                  <a:tab algn="l" pos="855720"/>
                  <a:tab algn="l" pos="1711440"/>
                  <a:tab algn="l" pos="2567160"/>
                  <a:tab algn="l" pos="3422520"/>
                  <a:tab algn="l" pos="4278240"/>
                  <a:tab algn="l" pos="5133960"/>
                  <a:tab algn="l" pos="5989680"/>
                  <a:tab algn="l" pos="6845400"/>
                  <a:tab algn="l" pos="7701120"/>
                  <a:tab algn="l" pos="8556480"/>
                  <a:tab algn="l" pos="9412200"/>
                  <a:tab algn="l" pos="1026792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Negoci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6350040" y="5435640"/>
              <a:ext cx="209520" cy="247680"/>
            </a:xfrm>
            <a:prstGeom prst="upArrow">
              <a:avLst>
                <a:gd name="adj1" fmla="val 50000"/>
                <a:gd name="adj2" fmla="val 29553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356520" y="4889520"/>
              <a:ext cx="209520" cy="247680"/>
            </a:xfrm>
            <a:prstGeom prst="upArrow">
              <a:avLst>
                <a:gd name="adj1" fmla="val 50000"/>
                <a:gd name="adj2" fmla="val 29553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7884000" y="4984920"/>
            <a:ext cx="1194480" cy="792720"/>
            <a:chOff x="7884000" y="4984920"/>
            <a:chExt cx="1194480" cy="792720"/>
          </a:xfrm>
        </p:grpSpPr>
        <p:sp>
          <p:nvSpPr>
            <p:cNvPr id="156" name=""/>
            <p:cNvSpPr/>
            <p:nvPr/>
          </p:nvSpPr>
          <p:spPr>
            <a:xfrm>
              <a:off x="7884000" y="5132160"/>
              <a:ext cx="1194480" cy="42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3200" bIns="43200" anchor="t">
              <a:sp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0"/>
                  <a:tab algn="l" pos="855720"/>
                  <a:tab algn="l" pos="1711440"/>
                  <a:tab algn="l" pos="2567160"/>
                  <a:tab algn="l" pos="3422520"/>
                  <a:tab algn="l" pos="4278240"/>
                  <a:tab algn="l" pos="5133960"/>
                  <a:tab algn="l" pos="5989680"/>
                  <a:tab algn="l" pos="6845400"/>
                  <a:tab algn="l" pos="7701120"/>
                  <a:tab algn="l" pos="8556480"/>
                  <a:tab algn="l" pos="9412200"/>
                  <a:tab algn="l" pos="1026792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Negoci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8369280" y="5529960"/>
              <a:ext cx="209160" cy="247320"/>
            </a:xfrm>
            <a:prstGeom prst="upArrow">
              <a:avLst>
                <a:gd name="adj1" fmla="val 50000"/>
                <a:gd name="adj2" fmla="val 29561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375760" y="4984920"/>
              <a:ext cx="209160" cy="247320"/>
            </a:xfrm>
            <a:prstGeom prst="upArrow">
              <a:avLst>
                <a:gd name="adj1" fmla="val 50000"/>
                <a:gd name="adj2" fmla="val 29561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112280" y="4946760"/>
            <a:ext cx="1194480" cy="793800"/>
            <a:chOff x="4112280" y="4946760"/>
            <a:chExt cx="1194480" cy="793800"/>
          </a:xfrm>
        </p:grpSpPr>
        <p:sp>
          <p:nvSpPr>
            <p:cNvPr id="160" name=""/>
            <p:cNvSpPr/>
            <p:nvPr/>
          </p:nvSpPr>
          <p:spPr>
            <a:xfrm>
              <a:off x="4112280" y="5094360"/>
              <a:ext cx="1194480" cy="42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3200" bIns="43200" anchor="t">
              <a:sp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0"/>
                  <a:tab algn="l" pos="855720"/>
                  <a:tab algn="l" pos="1711440"/>
                  <a:tab algn="l" pos="2567160"/>
                  <a:tab algn="l" pos="3422520"/>
                  <a:tab algn="l" pos="4278240"/>
                  <a:tab algn="l" pos="5133960"/>
                  <a:tab algn="l" pos="5989680"/>
                  <a:tab algn="l" pos="6845400"/>
                  <a:tab algn="l" pos="7701120"/>
                  <a:tab algn="l" pos="8556480"/>
                  <a:tab algn="l" pos="9412200"/>
                  <a:tab algn="l" pos="1026792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Negoci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4597560" y="5492880"/>
              <a:ext cx="209520" cy="247680"/>
            </a:xfrm>
            <a:prstGeom prst="upArrow">
              <a:avLst>
                <a:gd name="adj1" fmla="val 50000"/>
                <a:gd name="adj2" fmla="val 29553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604040" y="4946760"/>
              <a:ext cx="209520" cy="247680"/>
            </a:xfrm>
            <a:prstGeom prst="upArrow">
              <a:avLst>
                <a:gd name="adj1" fmla="val 50000"/>
                <a:gd name="adj2" fmla="val 29553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2470320" y="2317680"/>
            <a:ext cx="209520" cy="247680"/>
          </a:xfrm>
          <a:prstGeom prst="upArrow">
            <a:avLst>
              <a:gd name="adj1" fmla="val 50000"/>
              <a:gd name="adj2" fmla="val 2955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32320" y="2336760"/>
            <a:ext cx="209520" cy="247680"/>
          </a:xfrm>
          <a:prstGeom prst="upArrow">
            <a:avLst>
              <a:gd name="adj1" fmla="val 50000"/>
              <a:gd name="adj2" fmla="val 2955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13400" y="2336760"/>
            <a:ext cx="209520" cy="247680"/>
          </a:xfrm>
          <a:prstGeom prst="upArrow">
            <a:avLst>
              <a:gd name="adj1" fmla="val 50000"/>
              <a:gd name="adj2" fmla="val 2955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528040" y="2336760"/>
            <a:ext cx="209520" cy="247680"/>
          </a:xfrm>
          <a:prstGeom prst="upArrow">
            <a:avLst>
              <a:gd name="adj1" fmla="val 50000"/>
              <a:gd name="adj2" fmla="val 2955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05320" y="1314360"/>
            <a:ext cx="1009440" cy="381240"/>
          </a:xfrm>
          <a:custGeom>
            <a:avLst/>
            <a:gdLst>
              <a:gd name="textAreaLeft" fmla="*/ 0 w 1009440"/>
              <a:gd name="textAreaRight" fmla="*/ 1009800 w 100944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6635880" y="1301760"/>
            <a:ext cx="1009440" cy="380880"/>
          </a:xfrm>
          <a:custGeom>
            <a:avLst/>
            <a:gdLst>
              <a:gd name="textAreaLeft" fmla="*/ 360 w 1009440"/>
              <a:gd name="textAreaRight" fmla="*/ 1010160 w 10094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8T13:41:26Z</dcterms:created>
  <dc:creator>CCE</dc:creator>
  <dc:description/>
  <dc:language>en-US</dc:language>
  <cp:lastModifiedBy>Coordenacao Academica</cp:lastModifiedBy>
  <dcterms:modified xsi:type="dcterms:W3CDTF">2005-06-16T03:01:06Z</dcterms:modified>
  <cp:revision>339</cp:revision>
  <dc:subject/>
  <dc:title>Gerência do Tempo</dc:title>
</cp:coreProperties>
</file>